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180-A6F5-4135-B5B0-6790ADDD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AFD-4253-4F22-9B0B-BC3D7345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EEF-9A98-44FF-BE79-BAD92181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D2D-2C3E-4D81-9FB7-94987A83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D59-4E7A-4D2C-8C92-071A4A8A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B93-B0C2-41A7-A60D-563CDEA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3B5-5433-4F35-824A-3BE78190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705-26EB-4739-A6FA-69A894E5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423-D614-449B-8B56-27EB417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475-E659-4E74-9E5C-EAA039C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7E6-2CBA-448B-9FAA-6C3DD18E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7F4-DAE2-4DA9-A030-C06D127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A0AB-5527-41D0-B5EA-87B1E69EF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300 Náš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, Pane sobo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Bože, Pane sob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plný lásky, dobroty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č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uj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ašich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labých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osieb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hla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r svojej lásky roznieť v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a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ítomno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oj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jav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 k sebe tiahni, zlého zba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aše vrúcne piesne chv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ob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rijmi,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 svätiť sobotu nás uč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od tej večnej neodlúč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eď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erným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áš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vár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o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ju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rie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lasť novú v sláve uvi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ríď skoro už, deň túže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 radostnej tej premen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o splní naše nádej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strasti nav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odve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38:23Z</dcterms:modified>
  <cp:revision>23</cp:revision>
  <dc:subject/>
  <dc:title>Je veľký náš Pán, on slávy je Kráľ Nech do všetkých strán  spev vrúcnych znie chvál.</dc:title>
</cp:coreProperties>
</file>